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png" ContentType="image/png"/>
  <Override PartName="/ppt/media/i-did-it.wav" ContentType="audio/x-wav"/>
  <Override PartName="/ppt/media/image7.png" ContentType="image/png"/>
  <Override PartName="/ppt/media/delcious2.wav" ContentType="audio/x-wav"/>
  <Override PartName="/ppt/media/image1.jpeg" ContentType="image/jpeg"/>
  <Override PartName="/ppt/media/somewhere.wav" ContentType="audio/x-wav"/>
  <Override PartName="/ppt/media/image6.png" ContentType="image/png"/>
  <Override PartName="/ppt/media/superb.wav" ContentType="audio/x-wav"/>
  <Override PartName="/ppt/media/image10.png" ContentType="image/png"/>
  <Override PartName="/ppt/media/image5.png" ContentType="image/png"/>
  <Override PartName="/ppt/media/image11.jpeg" ContentType="image/jpeg"/>
  <Override PartName="/ppt/media/voltage.wav" ContentType="audio/x-wav"/>
  <Override PartName="/ppt/media/boyohboy.wav" ContentType="audio/x-wav"/>
  <Override PartName="/ppt/media/image9.gif" ContentType="image/gif"/>
  <Override PartName="/ppt/media/laser.wav" ContentType="audio/x-wav"/>
  <Override PartName="/ppt/media/shhh.wav" ContentType="audio/x-wav"/>
  <Override PartName="/ppt/media/image4.jpeg" ContentType="image/jpeg"/>
  <Override PartName="/ppt/media/image2.png" ContentType="image/png"/>
  <Override PartName="/ppt/media/image3.png" ContentType="image/png"/>
  <Override PartName="/ppt/media/fractured_fairy_tales.wav" ContentType="audio/x-wav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9B76-0215-45C8-9FAC-06CA943A2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0BF1-A008-4F77-9650-C351D0E7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8669-B3C7-450D-9F02-940E545C8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74F2-F3B6-4641-ADAB-59AF9C032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9C01-3488-40D8-AD9E-2DDF0D6B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5B35-BB46-4626-9CEB-9DA0B78B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803F-53C6-4EE0-B2D3-816B7F6F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879D-AC0A-4BE1-90BE-6BBD9BEF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8991-50FF-4265-924E-652ED26B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B908-94C6-4F04-8482-054EE95A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A65A-36E0-4000-A6DE-8C09A698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B11F-621F-4BE0-9399-6EB2D704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3145-CD0D-4ED9-819C-15602C8B2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audio" Target="../media/i-did-it.wav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audio" Target="../media/shhh.wav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audio" Target="../media/somewhere.wav"/><Relationship Id="rId19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audio" Target="../media/superb.wav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delcious2.wav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boyohboy.wav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fractured_fairy_tales.wav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48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urtle’s Race With Beaver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d Wall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by Joanne Whit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 6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267080" y="290520"/>
            <a:ext cx="487692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286000" y="380880"/>
            <a:ext cx="6477120" cy="3079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80880" y="4343400"/>
            <a:ext cx="83059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The turtle walked </a:t>
            </a:r>
            <a:r>
              <a:rPr b="0" lang="en-US" sz="8000" spc="-1" strike="noStrike">
                <a:solidFill>
                  <a:srgbClr val="ff0000"/>
                </a:solidFill>
                <a:latin typeface="Century Gothic"/>
              </a:rPr>
              <a:t>toward  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 the lak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762120" y="2362320"/>
            <a:ext cx="1676160" cy="148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5257800"/>
            <a:ext cx="8305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didn’t say a     word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133720" y="533520"/>
            <a:ext cx="4800600" cy="4122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257800" y="5410080"/>
            <a:ext cx="3048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5257800"/>
            <a:ext cx="830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didn’t say a </a:t>
            </a:r>
            <a:r>
              <a:rPr b="0" lang="en-US" sz="8000" spc="-1" strike="noStrike">
                <a:solidFill>
                  <a:srgbClr val="ff0000"/>
                </a:solidFill>
                <a:latin typeface="Century Gothic"/>
              </a:rPr>
              <a:t>word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133720" y="533520"/>
            <a:ext cx="4800600" cy="412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4920" y="4876920"/>
            <a:ext cx="883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The bird flew   above      the tree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8643960" cy="1981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938760" y="2857680"/>
            <a:ext cx="1266480" cy="1143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3962520" y="243828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4952880" y="228600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5943600" y="259092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2666880" y="259092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1295280" y="266688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2390760" y="327672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0"/>
          <a:stretch/>
        </p:blipFill>
        <p:spPr>
          <a:xfrm>
            <a:off x="4952880" y="335268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1"/>
          <a:stretch/>
        </p:blipFill>
        <p:spPr>
          <a:xfrm>
            <a:off x="3657600" y="358128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2"/>
          <a:stretch/>
        </p:blipFill>
        <p:spPr>
          <a:xfrm>
            <a:off x="1371600" y="350532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3"/>
          <a:stretch/>
        </p:blipFill>
        <p:spPr>
          <a:xfrm>
            <a:off x="0" y="259092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4"/>
          <a:stretch/>
        </p:blipFill>
        <p:spPr>
          <a:xfrm>
            <a:off x="457200" y="335268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5"/>
          <a:stretch/>
        </p:blipFill>
        <p:spPr>
          <a:xfrm>
            <a:off x="6781680" y="228600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6"/>
          <a:stretch/>
        </p:blipFill>
        <p:spPr>
          <a:xfrm>
            <a:off x="6324480" y="342900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7"/>
          <a:stretch/>
        </p:blipFill>
        <p:spPr>
          <a:xfrm>
            <a:off x="7315200" y="3048120"/>
            <a:ext cx="1266840" cy="1143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257800" y="4952880"/>
            <a:ext cx="3657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4920" y="4572000"/>
            <a:ext cx="8839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The bird flew </a:t>
            </a:r>
            <a:r>
              <a:rPr b="0" lang="en-US" sz="8000" spc="-1" strike="noStrike">
                <a:solidFill>
                  <a:srgbClr val="ff0000"/>
                </a:solidFill>
                <a:latin typeface="Century Gothic"/>
              </a:rPr>
              <a:t>above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      the tree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8643960" cy="1981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38760" y="2857680"/>
            <a:ext cx="1266480" cy="1143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3962520" y="243828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4952880" y="228600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5943600" y="259092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2666880" y="259092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1295280" y="266688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9"/>
          <a:stretch/>
        </p:blipFill>
        <p:spPr>
          <a:xfrm>
            <a:off x="2390760" y="327672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0"/>
          <a:stretch/>
        </p:blipFill>
        <p:spPr>
          <a:xfrm>
            <a:off x="4952880" y="335268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1"/>
          <a:stretch/>
        </p:blipFill>
        <p:spPr>
          <a:xfrm>
            <a:off x="3657600" y="358128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2"/>
          <a:stretch/>
        </p:blipFill>
        <p:spPr>
          <a:xfrm>
            <a:off x="1371600" y="350532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3"/>
          <a:stretch/>
        </p:blipFill>
        <p:spPr>
          <a:xfrm>
            <a:off x="0" y="259092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4"/>
          <a:stretch/>
        </p:blipFill>
        <p:spPr>
          <a:xfrm>
            <a:off x="457200" y="335268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5"/>
          <a:stretch/>
        </p:blipFill>
        <p:spPr>
          <a:xfrm>
            <a:off x="6781680" y="228600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6"/>
          <a:stretch/>
        </p:blipFill>
        <p:spPr>
          <a:xfrm>
            <a:off x="6324480" y="342900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7"/>
          <a:stretch/>
        </p:blipFill>
        <p:spPr>
          <a:xfrm>
            <a:off x="7315200" y="3048120"/>
            <a:ext cx="126684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920" y="533520"/>
            <a:ext cx="83818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ook at the word carefully as it flashes on the screen and then we will spell it together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1676520"/>
            <a:ext cx="83818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1676520"/>
            <a:ext cx="83818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1676520"/>
            <a:ext cx="83818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</a:rPr>
              <a:t>whole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4920" y="1676520"/>
            <a:ext cx="83818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</a:rPr>
              <a:t>toward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409680"/>
            <a:ext cx="9144000" cy="62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hant the words one time as they appe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towar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ag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wor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who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abo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enoug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1676520"/>
            <a:ext cx="83818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</a:rPr>
              <a:t>above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1676520"/>
            <a:ext cx="83818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</a:rPr>
              <a:t>ago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43000" y="5105520"/>
            <a:ext cx="1447920" cy="1342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010280" y="1219320"/>
            <a:ext cx="1638360" cy="1904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09480" y="838080"/>
            <a:ext cx="4800600" cy="3429000"/>
          </a:xfrm>
          <a:prstGeom prst="wedgeEllipseCallout">
            <a:avLst>
              <a:gd name="adj1" fmla="val 106018"/>
              <a:gd name="adj2" fmla="val -190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295280"/>
            <a:ext cx="327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Lady, didn’t the class do a superb jo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4495680"/>
            <a:ext cx="5638680" cy="1600200"/>
          </a:xfrm>
          <a:prstGeom prst="wedgeEllipseCallout">
            <a:avLst>
              <a:gd name="adj1" fmla="val -61907"/>
              <a:gd name="adj2" fmla="val 116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487692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ey sure did, Tram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666880" y="228600"/>
            <a:ext cx="3657600" cy="3389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449568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can’t believe I ate the whole       cak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5562720"/>
            <a:ext cx="38098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66880" y="420840"/>
            <a:ext cx="3657600" cy="3389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5800" y="4114800"/>
            <a:ext cx="7848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can’t believe I ate the </a:t>
            </a:r>
            <a:r>
              <a:rPr b="0" lang="en-US" sz="8000" spc="-1" strike="noStrike">
                <a:solidFill>
                  <a:srgbClr val="ff0000"/>
                </a:solidFill>
                <a:latin typeface="Century Gothic"/>
              </a:rPr>
              <a:t>whole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  cak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2120" y="2743200"/>
            <a:ext cx="784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George Washington chopped down a cherry tree a long time ago           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733920" y="152280"/>
            <a:ext cx="2004840" cy="2487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666880" y="5562720"/>
            <a:ext cx="38102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2743200"/>
            <a:ext cx="78483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George Washington chopped down a cherry tree a long time </a:t>
            </a:r>
            <a:r>
              <a:rPr b="0" lang="en-US" sz="8000" spc="-1" strike="noStrike">
                <a:solidFill>
                  <a:srgbClr val="ff0000"/>
                </a:solidFill>
                <a:latin typeface="Century Gothic"/>
              </a:rPr>
              <a:t>ago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733920" y="152280"/>
            <a:ext cx="2004840" cy="24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19320" y="44197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think you have enough        doll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38080" y="228600"/>
            <a:ext cx="6858000" cy="3098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19320" y="5486400"/>
            <a:ext cx="46479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19320" y="4191120"/>
            <a:ext cx="70866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think you have </a:t>
            </a:r>
            <a:r>
              <a:rPr b="0" lang="en-US" sz="8000" spc="-1" strike="noStrike">
                <a:solidFill>
                  <a:srgbClr val="ff0000"/>
                </a:solidFill>
                <a:latin typeface="Century Gothic"/>
              </a:rPr>
              <a:t>enough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 doll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066680" y="533520"/>
            <a:ext cx="6858000" cy="309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86000" y="380880"/>
            <a:ext cx="6477120" cy="3079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0880" y="434340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The turtle walked toward        the lak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62120" y="2362320"/>
            <a:ext cx="1676160" cy="1488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57200" y="5334120"/>
            <a:ext cx="4267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18:15:25Z</dcterms:created>
  <dc:creator>default</dc:creator>
  <dc:description/>
  <dc:language>en-US</dc:language>
  <cp:lastModifiedBy>default</cp:lastModifiedBy>
  <dcterms:modified xsi:type="dcterms:W3CDTF">2007-10-06T21:40:13Z</dcterms:modified>
  <cp:revision>5</cp:revision>
  <dc:subject/>
  <dc:title>Turtle’s Race With Beaver Word Wall Words</dc:title>
</cp:coreProperties>
</file>